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264400" cy="955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2944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552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336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2944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552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120" y="199800"/>
            <a:ext cx="91216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2944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3552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336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2944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3552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1120" y="199800"/>
            <a:ext cx="91216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4.stern.nyu.ed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4.stern.nyu.ed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5416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26172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19836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82720" indent="-2538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8272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8272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428040" y="7209000"/>
            <a:ext cx="252360" cy="25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404280" y="7207200"/>
            <a:ext cx="363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5BC880-C475-4680-8296-45B9238C6D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2120" y="7045200"/>
            <a:ext cx="27511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Marketing Optimiz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cc"/>
                </a:solidFill>
                <a:latin typeface="Arial"/>
              </a:rPr>
              <a:t>A Macro Appro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8928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058720" y="718668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tern.nyu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67224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69908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175720" y="704520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6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>
            <a:hlinkClick r:id="rId2"/>
          </p:cNvPr>
          <p:cNvPicPr/>
          <p:nvPr/>
        </p:nvPicPr>
        <p:blipFill>
          <a:blip r:embed="rId3"/>
          <a:srcRect l="2976" t="7965" r="51727" b="31977"/>
          <a:stretch/>
        </p:blipFill>
        <p:spPr>
          <a:xfrm>
            <a:off x="6878520" y="7068960"/>
            <a:ext cx="190368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058400" cy="6867360"/>
          </a:xfrm>
          <a:prstGeom prst="rect">
            <a:avLst/>
          </a:prstGeom>
          <a:gradFill rotWithShape="0">
            <a:gsLst>
              <a:gs pos="0">
                <a:srgbClr val="eae0d8"/>
              </a:gs>
              <a:gs pos="50000">
                <a:srgbClr val="fdfdfc"/>
              </a:gs>
              <a:gs pos="100000">
                <a:srgbClr val="eae0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" y="2529000"/>
            <a:ext cx="10039320" cy="4937040"/>
          </a:xfrm>
          <a:custGeom>
            <a:avLst/>
            <a:gdLst/>
            <a:ahLst/>
            <a:rect l="l" t="t" r="r" b="b"/>
            <a:pathLst>
              <a:path w="5757" h="2744">
                <a:moveTo>
                  <a:pt x="5757" y="1790"/>
                </a:moveTo>
                <a:lnTo>
                  <a:pt x="5651" y="1814"/>
                </a:lnTo>
                <a:lnTo>
                  <a:pt x="5406" y="1850"/>
                </a:lnTo>
                <a:lnTo>
                  <a:pt x="5154" y="1880"/>
                </a:lnTo>
                <a:lnTo>
                  <a:pt x="4903" y="1904"/>
                </a:lnTo>
                <a:lnTo>
                  <a:pt x="4646" y="1916"/>
                </a:lnTo>
                <a:lnTo>
                  <a:pt x="4389" y="1917"/>
                </a:lnTo>
                <a:lnTo>
                  <a:pt x="4126" y="1911"/>
                </a:lnTo>
                <a:lnTo>
                  <a:pt x="3869" y="1893"/>
                </a:lnTo>
                <a:lnTo>
                  <a:pt x="3612" y="1869"/>
                </a:lnTo>
                <a:lnTo>
                  <a:pt x="3361" y="1839"/>
                </a:lnTo>
                <a:lnTo>
                  <a:pt x="3110" y="1797"/>
                </a:lnTo>
                <a:lnTo>
                  <a:pt x="2870" y="1743"/>
                </a:lnTo>
                <a:lnTo>
                  <a:pt x="2631" y="1683"/>
                </a:lnTo>
                <a:lnTo>
                  <a:pt x="2398" y="1617"/>
                </a:lnTo>
                <a:lnTo>
                  <a:pt x="2171" y="1545"/>
                </a:lnTo>
                <a:lnTo>
                  <a:pt x="1950" y="1456"/>
                </a:lnTo>
                <a:lnTo>
                  <a:pt x="1734" y="1366"/>
                </a:lnTo>
                <a:lnTo>
                  <a:pt x="1531" y="1264"/>
                </a:lnTo>
                <a:lnTo>
                  <a:pt x="1328" y="1156"/>
                </a:lnTo>
                <a:lnTo>
                  <a:pt x="1136" y="1037"/>
                </a:lnTo>
                <a:lnTo>
                  <a:pt x="951" y="917"/>
                </a:lnTo>
                <a:lnTo>
                  <a:pt x="772" y="779"/>
                </a:lnTo>
                <a:lnTo>
                  <a:pt x="604" y="641"/>
                </a:lnTo>
                <a:lnTo>
                  <a:pt x="443" y="491"/>
                </a:lnTo>
                <a:lnTo>
                  <a:pt x="287" y="335"/>
                </a:lnTo>
                <a:lnTo>
                  <a:pt x="144" y="167"/>
                </a:lnTo>
                <a:lnTo>
                  <a:pt x="11" y="0"/>
                </a:lnTo>
                <a:lnTo>
                  <a:pt x="0" y="257"/>
                </a:lnTo>
                <a:lnTo>
                  <a:pt x="132" y="467"/>
                </a:lnTo>
                <a:lnTo>
                  <a:pt x="275" y="671"/>
                </a:lnTo>
                <a:lnTo>
                  <a:pt x="425" y="863"/>
                </a:lnTo>
                <a:lnTo>
                  <a:pt x="586" y="1049"/>
                </a:lnTo>
                <a:lnTo>
                  <a:pt x="754" y="1228"/>
                </a:lnTo>
                <a:lnTo>
                  <a:pt x="927" y="1402"/>
                </a:lnTo>
                <a:lnTo>
                  <a:pt x="1113" y="1564"/>
                </a:lnTo>
                <a:lnTo>
                  <a:pt x="1304" y="1720"/>
                </a:lnTo>
                <a:lnTo>
                  <a:pt x="1501" y="1864"/>
                </a:lnTo>
                <a:lnTo>
                  <a:pt x="1710" y="2002"/>
                </a:lnTo>
                <a:lnTo>
                  <a:pt x="1920" y="2122"/>
                </a:lnTo>
                <a:lnTo>
                  <a:pt x="2141" y="2240"/>
                </a:lnTo>
                <a:lnTo>
                  <a:pt x="2368" y="2342"/>
                </a:lnTo>
                <a:lnTo>
                  <a:pt x="2596" y="2432"/>
                </a:lnTo>
                <a:lnTo>
                  <a:pt x="2836" y="2516"/>
                </a:lnTo>
                <a:lnTo>
                  <a:pt x="3075" y="2588"/>
                </a:lnTo>
                <a:lnTo>
                  <a:pt x="3326" y="2642"/>
                </a:lnTo>
                <a:lnTo>
                  <a:pt x="3577" y="2690"/>
                </a:lnTo>
                <a:lnTo>
                  <a:pt x="3834" y="2720"/>
                </a:lnTo>
                <a:lnTo>
                  <a:pt x="4091" y="2738"/>
                </a:lnTo>
                <a:lnTo>
                  <a:pt x="4354" y="2744"/>
                </a:lnTo>
                <a:lnTo>
                  <a:pt x="4611" y="2731"/>
                </a:lnTo>
                <a:lnTo>
                  <a:pt x="4868" y="2707"/>
                </a:lnTo>
                <a:lnTo>
                  <a:pt x="5120" y="2671"/>
                </a:lnTo>
                <a:lnTo>
                  <a:pt x="5371" y="2623"/>
                </a:lnTo>
                <a:lnTo>
                  <a:pt x="5622" y="2563"/>
                </a:lnTo>
                <a:lnTo>
                  <a:pt x="5757" y="2516"/>
                </a:lnTo>
                <a:lnTo>
                  <a:pt x="5757" y="17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5600" y="504720"/>
            <a:ext cx="6484680" cy="6718320"/>
          </a:xfrm>
          <a:custGeom>
            <a:avLst/>
            <a:gdLst/>
            <a:ahLst/>
            <a:rect l="l" t="t" r="r" b="b"/>
            <a:pathLst>
              <a:path w="3964" h="3980">
                <a:moveTo>
                  <a:pt x="628" y="3980"/>
                </a:moveTo>
                <a:lnTo>
                  <a:pt x="550" y="3896"/>
                </a:lnTo>
                <a:lnTo>
                  <a:pt x="478" y="3806"/>
                </a:lnTo>
                <a:lnTo>
                  <a:pt x="413" y="3710"/>
                </a:lnTo>
                <a:lnTo>
                  <a:pt x="347" y="3614"/>
                </a:lnTo>
                <a:lnTo>
                  <a:pt x="245" y="3417"/>
                </a:lnTo>
                <a:lnTo>
                  <a:pt x="161" y="3213"/>
                </a:lnTo>
                <a:lnTo>
                  <a:pt x="108" y="3003"/>
                </a:lnTo>
                <a:lnTo>
                  <a:pt x="66" y="2787"/>
                </a:lnTo>
                <a:lnTo>
                  <a:pt x="54" y="2571"/>
                </a:lnTo>
                <a:lnTo>
                  <a:pt x="60" y="2356"/>
                </a:lnTo>
                <a:lnTo>
                  <a:pt x="90" y="2134"/>
                </a:lnTo>
                <a:lnTo>
                  <a:pt x="137" y="1918"/>
                </a:lnTo>
                <a:lnTo>
                  <a:pt x="203" y="1708"/>
                </a:lnTo>
                <a:lnTo>
                  <a:pt x="293" y="1498"/>
                </a:lnTo>
                <a:lnTo>
                  <a:pt x="395" y="1295"/>
                </a:lnTo>
                <a:lnTo>
                  <a:pt x="520" y="1103"/>
                </a:lnTo>
                <a:lnTo>
                  <a:pt x="664" y="923"/>
                </a:lnTo>
                <a:lnTo>
                  <a:pt x="825" y="749"/>
                </a:lnTo>
                <a:lnTo>
                  <a:pt x="998" y="593"/>
                </a:lnTo>
                <a:lnTo>
                  <a:pt x="1184" y="462"/>
                </a:lnTo>
                <a:lnTo>
                  <a:pt x="1375" y="342"/>
                </a:lnTo>
                <a:lnTo>
                  <a:pt x="1578" y="246"/>
                </a:lnTo>
                <a:lnTo>
                  <a:pt x="1782" y="174"/>
                </a:lnTo>
                <a:lnTo>
                  <a:pt x="1985" y="114"/>
                </a:lnTo>
                <a:lnTo>
                  <a:pt x="2200" y="78"/>
                </a:lnTo>
                <a:lnTo>
                  <a:pt x="2410" y="66"/>
                </a:lnTo>
                <a:lnTo>
                  <a:pt x="2619" y="72"/>
                </a:lnTo>
                <a:lnTo>
                  <a:pt x="2828" y="96"/>
                </a:lnTo>
                <a:lnTo>
                  <a:pt x="3031" y="144"/>
                </a:lnTo>
                <a:lnTo>
                  <a:pt x="3235" y="216"/>
                </a:lnTo>
                <a:lnTo>
                  <a:pt x="3426" y="306"/>
                </a:lnTo>
                <a:lnTo>
                  <a:pt x="3617" y="420"/>
                </a:lnTo>
                <a:lnTo>
                  <a:pt x="3797" y="557"/>
                </a:lnTo>
                <a:lnTo>
                  <a:pt x="3964" y="713"/>
                </a:lnTo>
                <a:lnTo>
                  <a:pt x="3797" y="551"/>
                </a:lnTo>
                <a:lnTo>
                  <a:pt x="3611" y="414"/>
                </a:lnTo>
                <a:lnTo>
                  <a:pt x="3420" y="294"/>
                </a:lnTo>
                <a:lnTo>
                  <a:pt x="3217" y="192"/>
                </a:lnTo>
                <a:lnTo>
                  <a:pt x="3007" y="114"/>
                </a:lnTo>
                <a:lnTo>
                  <a:pt x="2792" y="54"/>
                </a:lnTo>
                <a:lnTo>
                  <a:pt x="2571" y="18"/>
                </a:lnTo>
                <a:lnTo>
                  <a:pt x="2350" y="0"/>
                </a:lnTo>
                <a:lnTo>
                  <a:pt x="2128" y="6"/>
                </a:lnTo>
                <a:lnTo>
                  <a:pt x="1907" y="30"/>
                </a:lnTo>
                <a:lnTo>
                  <a:pt x="1686" y="72"/>
                </a:lnTo>
                <a:lnTo>
                  <a:pt x="1477" y="144"/>
                </a:lnTo>
                <a:lnTo>
                  <a:pt x="1268" y="228"/>
                </a:lnTo>
                <a:lnTo>
                  <a:pt x="1070" y="342"/>
                </a:lnTo>
                <a:lnTo>
                  <a:pt x="885" y="468"/>
                </a:lnTo>
                <a:lnTo>
                  <a:pt x="705" y="623"/>
                </a:lnTo>
                <a:lnTo>
                  <a:pt x="544" y="797"/>
                </a:lnTo>
                <a:lnTo>
                  <a:pt x="407" y="983"/>
                </a:lnTo>
                <a:lnTo>
                  <a:pt x="287" y="1181"/>
                </a:lnTo>
                <a:lnTo>
                  <a:pt x="191" y="1391"/>
                </a:lnTo>
                <a:lnTo>
                  <a:pt x="114" y="1606"/>
                </a:lnTo>
                <a:lnTo>
                  <a:pt x="54" y="1834"/>
                </a:lnTo>
                <a:lnTo>
                  <a:pt x="18" y="2062"/>
                </a:lnTo>
                <a:lnTo>
                  <a:pt x="0" y="2290"/>
                </a:lnTo>
                <a:lnTo>
                  <a:pt x="6" y="2523"/>
                </a:lnTo>
                <a:lnTo>
                  <a:pt x="30" y="2751"/>
                </a:lnTo>
                <a:lnTo>
                  <a:pt x="78" y="2973"/>
                </a:lnTo>
                <a:lnTo>
                  <a:pt x="143" y="3195"/>
                </a:lnTo>
                <a:lnTo>
                  <a:pt x="233" y="3411"/>
                </a:lnTo>
                <a:lnTo>
                  <a:pt x="341" y="3608"/>
                </a:lnTo>
                <a:lnTo>
                  <a:pt x="472" y="3800"/>
                </a:lnTo>
                <a:lnTo>
                  <a:pt x="628" y="3980"/>
                </a:lnTo>
                <a:lnTo>
                  <a:pt x="628" y="398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261936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4320" y="7045200"/>
            <a:ext cx="2751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Marketing Optimiz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cc"/>
                </a:solidFill>
                <a:latin typeface="Arial"/>
              </a:rPr>
              <a:t>A Macro Appro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148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1280" y="718668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tern.nyu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480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164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27920" y="704520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6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rcRect l="2976" t="7965" r="51727" b="31977"/>
          <a:stretch/>
        </p:blipFill>
        <p:spPr>
          <a:xfrm>
            <a:off x="7831080" y="7068960"/>
            <a:ext cx="1903320" cy="471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5200" algn="ctr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8.png"/><Relationship Id="rId28" Type="http://schemas.openxmlformats.org/officeDocument/2006/relationships/image" Target="../media/image10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9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8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9.png"/><Relationship Id="rId57" Type="http://schemas.openxmlformats.org/officeDocument/2006/relationships/image" Target="../media/image8.png"/><Relationship Id="rId58" Type="http://schemas.openxmlformats.org/officeDocument/2006/relationships/image" Target="../media/image10.png"/><Relationship Id="rId59" Type="http://schemas.openxmlformats.org/officeDocument/2006/relationships/image" Target="../media/image8.png"/><Relationship Id="rId60" Type="http://schemas.openxmlformats.org/officeDocument/2006/relationships/image" Target="../media/image8.png"/><Relationship Id="rId61" Type="http://schemas.openxmlformats.org/officeDocument/2006/relationships/image" Target="../media/image8.png"/><Relationship Id="rId62" Type="http://schemas.openxmlformats.org/officeDocument/2006/relationships/image" Target="../media/image8.png"/><Relationship Id="rId63" Type="http://schemas.openxmlformats.org/officeDocument/2006/relationships/image" Target="../media/image3.png"/><Relationship Id="rId64" Type="http://schemas.openxmlformats.org/officeDocument/2006/relationships/image" Target="../media/image4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7.png"/><Relationship Id="rId68" Type="http://schemas.openxmlformats.org/officeDocument/2006/relationships/image" Target="../media/image7.png"/><Relationship Id="rId69" Type="http://schemas.openxmlformats.org/officeDocument/2006/relationships/image" Target="../media/image8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7.png"/><Relationship Id="rId73" Type="http://schemas.openxmlformats.org/officeDocument/2006/relationships/image" Target="../media/image7.png"/><Relationship Id="rId74" Type="http://schemas.openxmlformats.org/officeDocument/2006/relationships/image" Target="../media/image9.png"/><Relationship Id="rId75" Type="http://schemas.openxmlformats.org/officeDocument/2006/relationships/image" Target="../media/image3.png"/><Relationship Id="rId76" Type="http://schemas.openxmlformats.org/officeDocument/2006/relationships/image" Target="../media/image4.png"/><Relationship Id="rId77" Type="http://schemas.openxmlformats.org/officeDocument/2006/relationships/image" Target="../media/image5.png"/><Relationship Id="rId78" Type="http://schemas.openxmlformats.org/officeDocument/2006/relationships/image" Target="../media/image6.png"/><Relationship Id="rId79" Type="http://schemas.openxmlformats.org/officeDocument/2006/relationships/image" Target="../media/image7.pn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7.png"/><Relationship Id="rId85" Type="http://schemas.openxmlformats.org/officeDocument/2006/relationships/image" Target="../media/image7.png"/><Relationship Id="rId86" Type="http://schemas.openxmlformats.org/officeDocument/2006/relationships/image" Target="../media/image9.png"/><Relationship Id="rId87" Type="http://schemas.openxmlformats.org/officeDocument/2006/relationships/image" Target="../media/image8.png"/><Relationship Id="rId88" Type="http://schemas.openxmlformats.org/officeDocument/2006/relationships/image" Target="../media/image10.png"/><Relationship Id="rId89" Type="http://schemas.openxmlformats.org/officeDocument/2006/relationships/image" Target="../media/image8.png"/><Relationship Id="rId90" Type="http://schemas.openxmlformats.org/officeDocument/2006/relationships/image" Target="../media/image8.png"/><Relationship Id="rId91" Type="http://schemas.openxmlformats.org/officeDocument/2006/relationships/image" Target="../media/image8.png"/><Relationship Id="rId92" Type="http://schemas.openxmlformats.org/officeDocument/2006/relationships/image" Target="../media/image8.png"/><Relationship Id="rId9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21160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arketing Optimiz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9880" y="3438360"/>
            <a:ext cx="358920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Decis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5960" y="3424320"/>
            <a:ext cx="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438360"/>
            <a:ext cx="3870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6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Effect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3360" y="83772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is to show how channels interact with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matrix functions to cross-multiply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mulus affects response in other channels; that response added to “direct”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228600" y="2152800"/>
            <a:ext cx="9220320" cy="1919160"/>
          </a:xfrm>
          <a:prstGeom prst="rect">
            <a:avLst/>
          </a:prstGeom>
          <a:ln w="28440">
            <a:solidFill>
              <a:srgbClr val="c50731"/>
            </a:solidFill>
            <a:miter/>
          </a:ln>
        </p:spPr>
      </p:pic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212760" y="4200480"/>
            <a:ext cx="9312120" cy="2594160"/>
          </a:xfrm>
          <a:prstGeom prst="rect">
            <a:avLst/>
          </a:prstGeom>
          <a:ln w="28440">
            <a:solidFill>
              <a:srgbClr val="c50731"/>
            </a:solidFill>
            <a:miter/>
          </a:ln>
        </p:spPr>
      </p:pic>
      <p:sp>
        <p:nvSpPr>
          <p:cNvPr id="751" name=""/>
          <p:cNvSpPr/>
          <p:nvPr/>
        </p:nvSpPr>
        <p:spPr>
          <a:xfrm>
            <a:off x="3657600" y="1981080"/>
            <a:ext cx="297180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Stimulus Channel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705120"/>
            <a:ext cx="297180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fect These Order Channel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294920" y="3886200"/>
            <a:ext cx="838440" cy="0"/>
          </a:xfrm>
          <a:prstGeom prst="line">
            <a:avLst/>
          </a:prstGeom>
          <a:ln w="5724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905120" y="2209680"/>
            <a:ext cx="1752480" cy="152640"/>
          </a:xfrm>
          <a:prstGeom prst="line">
            <a:avLst/>
          </a:prstGeom>
          <a:ln w="5724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29400" y="2209680"/>
            <a:ext cx="1752480" cy="152640"/>
          </a:xfrm>
          <a:prstGeom prst="line">
            <a:avLst/>
          </a:prstGeom>
          <a:ln w="5724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5457960"/>
            <a:ext cx="358164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ing These “Indirect” Or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hannel Has a Response Cu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23360" y="838080"/>
            <a:ext cx="9186840" cy="1371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 curves are determined by coefficient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were in turn driven by econometric analysis and experi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s were driven by 8 market test (factorial / latin squ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533520" y="1947960"/>
            <a:ext cx="6705360" cy="481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0" name=""/>
          <p:cNvSpPr/>
          <p:nvPr/>
        </p:nvSpPr>
        <p:spPr>
          <a:xfrm>
            <a:off x="7391520" y="1981080"/>
            <a:ext cx="2361960" cy="24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is case, TV advertising produces marginal awareness and marginal consider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metrics decay in the marketplace through tim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 affect the response rates of other channels through “elasticiti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5105520"/>
            <a:ext cx="2819160" cy="1600200"/>
          </a:xfrm>
          <a:prstGeom prst="rect">
            <a:avLst/>
          </a:prstGeom>
          <a:noFill/>
          <a:ln w="3816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001000" y="5105520"/>
            <a:ext cx="1752480" cy="13726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BUDG equation and coefficients drive non-linear response to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314840" y="5791320"/>
            <a:ext cx="685800" cy="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ention Modeling is Particularly Compl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23360" y="106632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ention rates differ by channel of acquisition, customer typ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retention “cohort” must be modeling in 30-day inc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07960" y="1847880"/>
            <a:ext cx="5668920" cy="23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7" name=""/>
          <p:cNvSpPr/>
          <p:nvPr/>
        </p:nvSpPr>
        <p:spPr>
          <a:xfrm>
            <a:off x="6553080" y="1981080"/>
            <a:ext cx="2362320" cy="148392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ention rate matrix for each acquisition channel, by customer 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cellation, termination and migration all have unique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3581280" y="4414680"/>
            <a:ext cx="5791320" cy="259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9" name=""/>
          <p:cNvSpPr/>
          <p:nvPr/>
        </p:nvSpPr>
        <p:spPr>
          <a:xfrm>
            <a:off x="914400" y="4800600"/>
            <a:ext cx="2362320" cy="127080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drives a giant retention matrix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ch takes up most of the space in the Excel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23720" y="837720"/>
            <a:ext cx="451656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traints: 2008 market share at least 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jective Function: Maximize NP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PV: Increase from $120 M to $600 M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07960" y="2133720"/>
          <a:ext cx="78739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2133720"/>
                    <a:ext cx="7873920" cy="454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701640" y="1455840"/>
            <a:ext cx="8658000" cy="5215680"/>
            <a:chOff x="701640" y="1455840"/>
            <a:chExt cx="8658000" cy="5215680"/>
          </a:xfrm>
        </p:grpSpPr>
        <p:sp>
          <p:nvSpPr>
            <p:cNvPr id="100" name=""/>
            <p:cNvSpPr/>
            <p:nvPr/>
          </p:nvSpPr>
          <p:spPr>
            <a:xfrm>
              <a:off x="5025240" y="1455840"/>
              <a:ext cx="2481480" cy="2068560"/>
            </a:xfrm>
            <a:prstGeom prst="rect">
              <a:avLst/>
            </a:prstGeom>
            <a:solidFill>
              <a:srgbClr val="e5e5e5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90920" y="2628720"/>
              <a:ext cx="630000" cy="89208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0920" y="2047680"/>
              <a:ext cx="630000" cy="58068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90920" y="1482480"/>
              <a:ext cx="630000" cy="564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95720" y="1482480"/>
              <a:ext cx="0" cy="203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52160" y="3520800"/>
              <a:ext cx="435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160" y="3269160"/>
              <a:ext cx="43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160" y="3015360"/>
              <a:ext cx="435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2160" y="2756160"/>
              <a:ext cx="43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160" y="2502360"/>
              <a:ext cx="435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78080" y="2054520"/>
              <a:ext cx="417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8080" y="1802880"/>
              <a:ext cx="417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78080" y="1540080"/>
              <a:ext cx="417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160" y="1482480"/>
              <a:ext cx="435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995720" y="3520800"/>
              <a:ext cx="0" cy="6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8680" y="3524400"/>
              <a:ext cx="902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rrent 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09240" y="3524400"/>
              <a:ext cx="965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timiz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59680" y="161928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59680" y="224352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59680" y="293472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4200" y="2916360"/>
              <a:ext cx="583200" cy="59724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4200" y="2401560"/>
              <a:ext cx="583200" cy="51444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4200" y="1473480"/>
              <a:ext cx="583200" cy="928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7240" y="180288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07240" y="252936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07240" y="305640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28480" y="2437560"/>
              <a:ext cx="132840" cy="129600"/>
            </a:xfrm>
            <a:prstGeom prst="rect">
              <a:avLst/>
            </a:prstGeom>
            <a:solidFill>
              <a:srgbClr val="b7c7e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28480" y="2180520"/>
              <a:ext cx="132840" cy="12924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9360" y="2406960"/>
              <a:ext cx="108288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Enabl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7920" y="2148120"/>
              <a:ext cx="12045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mand Gen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28480" y="1887120"/>
              <a:ext cx="132840" cy="12960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30800" y="1856520"/>
              <a:ext cx="6681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waren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420720" y="1687680"/>
              <a:ext cx="1521000" cy="821880"/>
              <a:chOff x="3420720" y="1687680"/>
              <a:chExt cx="1521000" cy="821880"/>
            </a:xfrm>
          </p:grpSpPr>
          <p:sp>
            <p:nvSpPr>
              <p:cNvPr id="133" name=""/>
              <p:cNvSpPr/>
              <p:nvPr/>
            </p:nvSpPr>
            <p:spPr>
              <a:xfrm>
                <a:off x="3689640" y="1687680"/>
                <a:ext cx="125208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vest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0720" y="1701720"/>
                <a:ext cx="282600" cy="28728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7111800" y="290196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830400" y="2406960"/>
              <a:ext cx="2953080" cy="49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3275640" y="2779560"/>
            <a:ext cx="4493160" cy="227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5640" y="2779560"/>
                      <a:ext cx="4493160" cy="22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1985040" y="2952360"/>
              <a:ext cx="1291680" cy="581760"/>
              <a:chOff x="1985040" y="2952360"/>
              <a:chExt cx="1291680" cy="58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2259360" y="2955600"/>
                <a:ext cx="101736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85040" y="2952360"/>
                <a:ext cx="282600" cy="28368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V="1">
              <a:off x="6834600" y="2419200"/>
              <a:ext cx="527040" cy="4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01640" y="4125240"/>
              <a:ext cx="1524240" cy="335160"/>
              <a:chOff x="701640" y="4125240"/>
              <a:chExt cx="1524240" cy="335160"/>
            </a:xfrm>
          </p:grpSpPr>
          <p:sp>
            <p:nvSpPr>
              <p:cNvPr id="144" name=""/>
              <p:cNvSpPr/>
              <p:nvPr/>
            </p:nvSpPr>
            <p:spPr>
              <a:xfrm>
                <a:off x="951120" y="4125240"/>
                <a:ext cx="12747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mpa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1640" y="4128840"/>
                <a:ext cx="282600" cy="28584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199600" y="4029120"/>
              <a:ext cx="4101840" cy="2329200"/>
              <a:chOff x="2199600" y="4029120"/>
              <a:chExt cx="4101840" cy="2329200"/>
            </a:xfrm>
          </p:grpSpPr>
          <p:sp>
            <p:nvSpPr>
              <p:cNvPr id="147" name=""/>
              <p:cNvSpPr/>
              <p:nvPr/>
            </p:nvSpPr>
            <p:spPr>
              <a:xfrm>
                <a:off x="2356560" y="4089600"/>
                <a:ext cx="3936240" cy="194256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56560" y="4245480"/>
                <a:ext cx="3936240" cy="194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56560" y="6084360"/>
                <a:ext cx="3944880" cy="111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39480" y="6195600"/>
                <a:ext cx="5745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42160" y="6195600"/>
                <a:ext cx="572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4040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260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494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768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334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7768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8334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3260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4040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42494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361960" y="5055480"/>
                <a:ext cx="3935880" cy="767520"/>
                <a:chOff x="2361960" y="5055480"/>
                <a:chExt cx="3935880" cy="7675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361960" y="5055480"/>
                  <a:ext cx="39358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61960" y="5823000"/>
                  <a:ext cx="39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2543400" y="5778360"/>
                <a:ext cx="43632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7520" y="432108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9760" y="4407480"/>
                <a:ext cx="352440" cy="20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63920" y="4391280"/>
                <a:ext cx="396360" cy="12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788640" y="4698720"/>
                <a:ext cx="35100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0880" y="4647240"/>
                <a:ext cx="26568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2402280" y="4756680"/>
                <a:ext cx="4536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24000" y="4851720"/>
                <a:ext cx="132480" cy="1512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" name=""/>
              <p:cNvCxnSpPr>
                <a:stCxn id="170" idx="3"/>
                <a:endCxn id="172" idx="2"/>
              </p:cNvCxnSpPr>
              <p:nvPr/>
            </p:nvCxnSpPr>
            <p:spPr>
              <a:xfrm>
                <a:off x="2716200" y="4709520"/>
                <a:ext cx="307800" cy="217800"/>
              </a:xfrm>
              <a:prstGeom prst="bentConnector3">
                <a:avLst>
                  <a:gd name="adj1" fmla="val 4976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1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76440" y="478008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20360" y="488988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61760" y="469548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92640" y="469548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78" name=""/>
              <p:cNvCxnSpPr/>
              <p:nvPr/>
            </p:nvCxnSpPr>
            <p:spPr>
              <a:xfrm flipV="1">
                <a:off x="3012840" y="4662360"/>
                <a:ext cx="201240" cy="78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79" name=""/>
              <p:cNvCxnSpPr>
                <a:stCxn id="172" idx="4"/>
                <a:endCxn id="175" idx="1"/>
              </p:cNvCxnSpPr>
              <p:nvPr/>
            </p:nvCxnSpPr>
            <p:spPr>
              <a:xfrm>
                <a:off x="3156480" y="4926960"/>
                <a:ext cx="264240" cy="417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80" name=""/>
              <p:cNvCxnSpPr/>
              <p:nvPr/>
            </p:nvCxnSpPr>
            <p:spPr>
              <a:xfrm flipV="1">
                <a:off x="3638520" y="4626720"/>
                <a:ext cx="161280" cy="12816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81" name=""/>
              <p:cNvSpPr/>
              <p:nvPr/>
            </p:nvSpPr>
            <p:spPr>
              <a:xfrm>
                <a:off x="3963240" y="4562280"/>
                <a:ext cx="0" cy="17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59480" y="4717080"/>
                <a:ext cx="3542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05640" y="4415040"/>
                <a:ext cx="132480" cy="1454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9920" y="446148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6960" y="4985280"/>
                <a:ext cx="1677960" cy="644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3680" bIns="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6" name=""/>
              <p:cNvCxnSpPr>
                <a:endCxn id="167" idx="2"/>
              </p:cNvCxnSpPr>
              <p:nvPr/>
            </p:nvCxnSpPr>
            <p:spPr>
              <a:xfrm flipV="1">
                <a:off x="5785920" y="461592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87" name=""/>
              <p:cNvSpPr/>
              <p:nvPr/>
            </p:nvSpPr>
            <p:spPr>
              <a:xfrm>
                <a:off x="4140000" y="4859280"/>
                <a:ext cx="2368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69840" y="479952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2974680" y="4533480"/>
                <a:ext cx="153000" cy="110880"/>
                <a:chOff x="2974680" y="4533480"/>
                <a:chExt cx="153000" cy="1108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981520" y="4543920"/>
                  <a:ext cx="14256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58200" y="4551120"/>
                  <a:ext cx="4860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30120" y="459972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045960" y="454752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23640" y="4533480"/>
                  <a:ext cx="95400" cy="676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077280" y="455292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054600" y="457272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976480" y="460512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974680" y="46353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3083400" y="4513680"/>
                <a:ext cx="45000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/>
              <p:nvPr/>
            </p:nvCxnSpPr>
            <p:spPr>
              <a:xfrm flipV="1">
                <a:off x="3128400" y="4331520"/>
                <a:ext cx="161280" cy="5652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01" name=""/>
              <p:cNvSpPr/>
              <p:nvPr/>
            </p:nvSpPr>
            <p:spPr>
              <a:xfrm>
                <a:off x="3769560" y="4456080"/>
                <a:ext cx="1130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37200" y="4587480"/>
                <a:ext cx="26568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58040" y="455544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flipV="1">
                <a:off x="4113360" y="464328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92440" y="4643280"/>
                <a:ext cx="43920" cy="68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48920" y="446148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45040" y="4287240"/>
                <a:ext cx="937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548240" y="462888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50000" y="4625280"/>
                <a:ext cx="33480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64560" y="4634280"/>
                <a:ext cx="26316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3514680" y="4287240"/>
                <a:ext cx="1138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"/>
              <p:cNvCxnSpPr>
                <a:endCxn id="210" idx="1"/>
              </p:cNvCxnSpPr>
              <p:nvPr/>
            </p:nvCxnSpPr>
            <p:spPr>
              <a:xfrm flipV="1">
                <a:off x="3184200" y="4693320"/>
                <a:ext cx="180720" cy="207360"/>
              </a:xfrm>
              <a:prstGeom prst="bentConnector3">
                <a:avLst>
                  <a:gd name="adj1" fmla="val 60079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endCxn id="188" idx="0"/>
              </p:cNvCxnSpPr>
              <p:nvPr/>
            </p:nvCxnSpPr>
            <p:spPr>
              <a:xfrm>
                <a:off x="3657240" y="4705920"/>
                <a:ext cx="232920" cy="93960"/>
              </a:xfrm>
              <a:prstGeom prst="bentConnector4">
                <a:avLst>
                  <a:gd name="adj1" fmla="val 39164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14" name=""/>
              <p:cNvSpPr/>
              <p:nvPr/>
            </p:nvSpPr>
            <p:spPr>
              <a:xfrm>
                <a:off x="5718240" y="5031720"/>
                <a:ext cx="5497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8320" y="508392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29840" y="5168520"/>
                <a:ext cx="352800" cy="21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74000" y="5152320"/>
                <a:ext cx="396360" cy="13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93680" y="546012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458080" y="5202720"/>
                <a:ext cx="2617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3034080" y="5614560"/>
                <a:ext cx="132480" cy="149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"/>
              <p:cNvCxnSpPr>
                <a:stCxn id="219" idx="3"/>
                <a:endCxn id="220" idx="2"/>
              </p:cNvCxnSpPr>
              <p:nvPr/>
            </p:nvCxnSpPr>
            <p:spPr>
              <a:xfrm>
                <a:off x="2719440" y="5263920"/>
                <a:ext cx="315000" cy="426960"/>
              </a:xfrm>
              <a:prstGeom prst="bentConnector3">
                <a:avLst>
                  <a:gd name="adj1" fmla="val 4977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86880" y="55407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430440" y="5650560"/>
                <a:ext cx="219960" cy="1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371840" y="545652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03080" y="5456520"/>
                <a:ext cx="350640" cy="2516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6" name=""/>
              <p:cNvCxnSpPr>
                <a:stCxn id="220" idx="4"/>
                <a:endCxn id="222" idx="1"/>
              </p:cNvCxnSpPr>
              <p:nvPr/>
            </p:nvCxnSpPr>
            <p:spPr>
              <a:xfrm flipV="1">
                <a:off x="3166560" y="5601600"/>
                <a:ext cx="220680" cy="885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27" name=""/>
              <p:cNvCxnSpPr>
                <a:stCxn id="220" idx="4"/>
                <a:endCxn id="223" idx="1"/>
              </p:cNvCxnSpPr>
              <p:nvPr/>
            </p:nvCxnSpPr>
            <p:spPr>
              <a:xfrm>
                <a:off x="3166920" y="5689800"/>
                <a:ext cx="264240" cy="399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28" name=""/>
              <p:cNvCxnSpPr/>
              <p:nvPr/>
            </p:nvCxnSpPr>
            <p:spPr>
              <a:xfrm flipV="1">
                <a:off x="3578760" y="5295240"/>
                <a:ext cx="159480" cy="1285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29" name=""/>
              <p:cNvSpPr/>
              <p:nvPr/>
            </p:nvSpPr>
            <p:spPr>
              <a:xfrm>
                <a:off x="3974040" y="5323320"/>
                <a:ext cx="0" cy="141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70280" y="5465520"/>
                <a:ext cx="40284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7520" y="5175720"/>
                <a:ext cx="131040" cy="1476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40360" y="522252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47400" y="5747760"/>
                <a:ext cx="1677960" cy="630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"/>
              <p:cNvCxnSpPr>
                <a:endCxn id="216" idx="2"/>
              </p:cNvCxnSpPr>
              <p:nvPr/>
            </p:nvCxnSpPr>
            <p:spPr>
              <a:xfrm flipV="1">
                <a:off x="5796360" y="5378400"/>
                <a:ext cx="210600" cy="19512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4248000" y="5622120"/>
                <a:ext cx="1396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0640" y="556236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2986920" y="5295960"/>
                <a:ext cx="153000" cy="111240"/>
                <a:chOff x="2986920" y="5295960"/>
                <a:chExt cx="153000" cy="111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993760" y="5306760"/>
                  <a:ext cx="14256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070440" y="5313960"/>
                  <a:ext cx="48600" cy="4608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042360" y="536256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058200" y="531036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35880" y="5295960"/>
                  <a:ext cx="95400" cy="6804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089520" y="531576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66840" y="533520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988720" y="5367960"/>
                  <a:ext cx="5004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86920" y="539820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3140640" y="5280120"/>
                <a:ext cx="44532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8" name=""/>
              <p:cNvCxnSpPr/>
              <p:nvPr/>
            </p:nvCxnSpPr>
            <p:spPr>
              <a:xfrm flipV="1">
                <a:off x="3138840" y="5004000"/>
                <a:ext cx="160920" cy="543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49" name=""/>
              <p:cNvSpPr/>
              <p:nvPr/>
            </p:nvSpPr>
            <p:spPr>
              <a:xfrm>
                <a:off x="3780000" y="521892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233960" y="535572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668840" y="5316120"/>
                <a:ext cx="2653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flipV="1">
                <a:off x="4124160" y="5404320"/>
                <a:ext cx="104400" cy="8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04680" y="5404320"/>
                <a:ext cx="43560" cy="69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9360" y="522252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55120" y="5047920"/>
                <a:ext cx="9324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558680" y="5391360"/>
                <a:ext cx="10440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60440" y="5386320"/>
                <a:ext cx="3351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376440" y="5396760"/>
                <a:ext cx="26352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3524760" y="5047920"/>
                <a:ext cx="114048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0" name=""/>
              <p:cNvCxnSpPr>
                <a:endCxn id="258" idx="1"/>
              </p:cNvCxnSpPr>
              <p:nvPr/>
            </p:nvCxnSpPr>
            <p:spPr>
              <a:xfrm flipV="1">
                <a:off x="3196080" y="545436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61" name=""/>
              <p:cNvCxnSpPr>
                <a:endCxn id="236" idx="0"/>
              </p:cNvCxnSpPr>
              <p:nvPr/>
            </p:nvCxnSpPr>
            <p:spPr>
              <a:xfrm>
                <a:off x="3668040" y="5468760"/>
                <a:ext cx="232560" cy="93960"/>
              </a:xfrm>
              <a:prstGeom prst="bentConnector4">
                <a:avLst>
                  <a:gd name="adj1" fmla="val 9922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6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627640" y="5389920"/>
                <a:ext cx="219600" cy="15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2393640" y="5098320"/>
                <a:ext cx="4521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69680" y="5526720"/>
                <a:ext cx="37152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662200" y="4438080"/>
                <a:ext cx="30888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270680" y="5195880"/>
                <a:ext cx="21996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960440" y="5312520"/>
                <a:ext cx="219960" cy="15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256640" y="4430880"/>
                <a:ext cx="21996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953240" y="4492080"/>
                <a:ext cx="219960" cy="15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5192640" y="5146920"/>
                <a:ext cx="437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76800" y="4382280"/>
                <a:ext cx="4381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377680" y="5312520"/>
                <a:ext cx="0" cy="167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356800" y="4546080"/>
                <a:ext cx="0" cy="168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77640" y="4303080"/>
                <a:ext cx="5166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99840" y="5852160"/>
                <a:ext cx="91152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64560" y="5852160"/>
                <a:ext cx="10386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49160" y="5852160"/>
                <a:ext cx="10440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02280" y="60768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38320" y="60768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41240" y="6076800"/>
                <a:ext cx="2775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81160" y="60768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80480" y="60768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94200" y="6076800"/>
                <a:ext cx="28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33480" y="6076800"/>
                <a:ext cx="2793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926320" y="60768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532008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1312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200000">
                <a:off x="2036160" y="456228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00000">
                <a:off x="2036160" y="533052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31840" y="4200840"/>
                <a:ext cx="107784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459800">
                <a:off x="5643720" y="4125960"/>
                <a:ext cx="506160" cy="16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flipH="1">
              <a:off x="6277680" y="3360960"/>
              <a:ext cx="506160" cy="7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376360" y="3015360"/>
              <a:ext cx="4232880" cy="10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12840" y="5364720"/>
              <a:ext cx="16660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mpaign Pl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5720" y="4188240"/>
              <a:ext cx="1666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 RO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93560" y="2925000"/>
              <a:ext cx="1666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keting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1680" y="4827240"/>
              <a:ext cx="223560" cy="4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8222760" y="3441600"/>
              <a:ext cx="22176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035800" y="4185360"/>
              <a:ext cx="4101480" cy="2329560"/>
              <a:chOff x="2035800" y="4185360"/>
              <a:chExt cx="4101480" cy="2329560"/>
            </a:xfrm>
          </p:grpSpPr>
          <p:sp>
            <p:nvSpPr>
              <p:cNvPr id="300" name=""/>
              <p:cNvSpPr/>
              <p:nvPr/>
            </p:nvSpPr>
            <p:spPr>
              <a:xfrm>
                <a:off x="2192760" y="4245840"/>
                <a:ext cx="3935520" cy="194292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92760" y="4402440"/>
                <a:ext cx="3935520" cy="194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92760" y="6240960"/>
                <a:ext cx="3944520" cy="111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75680" y="6352200"/>
                <a:ext cx="5745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8360" y="6352200"/>
                <a:ext cx="5724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7624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6188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8564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1304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6928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61304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66928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316188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267624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08564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2198160" y="5211720"/>
                <a:ext cx="3935160" cy="767520"/>
                <a:chOff x="2198160" y="5211720"/>
                <a:chExt cx="3935160" cy="767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198160" y="5211720"/>
                  <a:ext cx="393516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198160" y="5979240"/>
                  <a:ext cx="393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379600" y="5934960"/>
                <a:ext cx="43632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9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63720" y="447768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55600" y="4564080"/>
                <a:ext cx="352800" cy="20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3299760" y="4547880"/>
                <a:ext cx="396360" cy="12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3624840" y="485568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2287080" y="4803480"/>
                <a:ext cx="2653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2238120" y="4912920"/>
                <a:ext cx="45396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59840" y="5008320"/>
                <a:ext cx="132480" cy="1508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"/>
              <p:cNvCxnSpPr>
                <a:stCxn id="323" idx="3"/>
                <a:endCxn id="325" idx="2"/>
              </p:cNvCxnSpPr>
              <p:nvPr/>
            </p:nvCxnSpPr>
            <p:spPr>
              <a:xfrm>
                <a:off x="2552040" y="4866120"/>
                <a:ext cx="307800" cy="217800"/>
              </a:xfrm>
              <a:prstGeom prst="bentConnector3">
                <a:avLst>
                  <a:gd name="adj1" fmla="val 4976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2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3212640" y="493668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3256200" y="5046480"/>
                <a:ext cx="21996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197240" y="485172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28480" y="485172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31" name=""/>
              <p:cNvCxnSpPr/>
              <p:nvPr/>
            </p:nvCxnSpPr>
            <p:spPr>
              <a:xfrm flipV="1">
                <a:off x="2849040" y="4818960"/>
                <a:ext cx="201240" cy="78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2" name=""/>
              <p:cNvCxnSpPr>
                <a:stCxn id="325" idx="4"/>
                <a:endCxn id="328" idx="1"/>
              </p:cNvCxnSpPr>
              <p:nvPr/>
            </p:nvCxnSpPr>
            <p:spPr>
              <a:xfrm>
                <a:off x="2992320" y="5083560"/>
                <a:ext cx="264240" cy="417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3" name=""/>
              <p:cNvCxnSpPr/>
              <p:nvPr/>
            </p:nvCxnSpPr>
            <p:spPr>
              <a:xfrm flipV="1">
                <a:off x="3474360" y="4783320"/>
                <a:ext cx="161280" cy="12816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34" name=""/>
              <p:cNvSpPr/>
              <p:nvPr/>
            </p:nvSpPr>
            <p:spPr>
              <a:xfrm>
                <a:off x="3799440" y="4718880"/>
                <a:ext cx="0" cy="17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97480" y="4873320"/>
                <a:ext cx="35280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41480" y="4571280"/>
                <a:ext cx="132480" cy="1458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66120" y="461808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72800" y="5141520"/>
                <a:ext cx="1677960" cy="648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4040" bIns="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9" name=""/>
              <p:cNvCxnSpPr>
                <a:endCxn id="320" idx="2"/>
              </p:cNvCxnSpPr>
              <p:nvPr/>
            </p:nvCxnSpPr>
            <p:spPr>
              <a:xfrm flipV="1">
                <a:off x="5621760" y="4772520"/>
                <a:ext cx="210600" cy="19512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40" name=""/>
              <p:cNvSpPr/>
              <p:nvPr/>
            </p:nvSpPr>
            <p:spPr>
              <a:xfrm>
                <a:off x="3975480" y="5015880"/>
                <a:ext cx="237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06040" y="495612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2810880" y="4689720"/>
                <a:ext cx="153000" cy="111240"/>
                <a:chOff x="2810880" y="4689720"/>
                <a:chExt cx="153000" cy="1112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817360" y="4700520"/>
                  <a:ext cx="14292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4040" y="4707720"/>
                  <a:ext cx="48960" cy="4608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66320" y="475632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82160" y="4704120"/>
                  <a:ext cx="7092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59480" y="4689720"/>
                  <a:ext cx="95760" cy="6804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913480" y="470952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890800" y="4728960"/>
                  <a:ext cx="5004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812320" y="476172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810880" y="47919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2919240" y="4670280"/>
                <a:ext cx="4503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3" name=""/>
              <p:cNvCxnSpPr/>
              <p:nvPr/>
            </p:nvCxnSpPr>
            <p:spPr>
              <a:xfrm flipV="1">
                <a:off x="2964240" y="4488480"/>
                <a:ext cx="160920" cy="56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54" name=""/>
              <p:cNvSpPr/>
              <p:nvPr/>
            </p:nvSpPr>
            <p:spPr>
              <a:xfrm>
                <a:off x="3605400" y="4612680"/>
                <a:ext cx="1134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073400" y="4744080"/>
                <a:ext cx="2653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494240" y="4711680"/>
                <a:ext cx="2635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flipV="1">
                <a:off x="3949560" y="4799520"/>
                <a:ext cx="10440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28640" y="4799520"/>
                <a:ext cx="43560" cy="68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85120" y="461808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80880" y="4443480"/>
                <a:ext cx="937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384440" y="4785480"/>
                <a:ext cx="10440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85840" y="4781520"/>
                <a:ext cx="3351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200400" y="4790520"/>
                <a:ext cx="26352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3350520" y="4443480"/>
                <a:ext cx="1138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5" name=""/>
              <p:cNvCxnSpPr>
                <a:endCxn id="363" idx="1"/>
              </p:cNvCxnSpPr>
              <p:nvPr/>
            </p:nvCxnSpPr>
            <p:spPr>
              <a:xfrm flipV="1">
                <a:off x="3020040" y="484992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66" name=""/>
              <p:cNvCxnSpPr>
                <a:endCxn id="341" idx="0"/>
              </p:cNvCxnSpPr>
              <p:nvPr/>
            </p:nvCxnSpPr>
            <p:spPr>
              <a:xfrm>
                <a:off x="3493800" y="4862520"/>
                <a:ext cx="232560" cy="93960"/>
              </a:xfrm>
              <a:prstGeom prst="bentConnector4">
                <a:avLst>
                  <a:gd name="adj1" fmla="val 39069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67" name=""/>
              <p:cNvSpPr/>
              <p:nvPr/>
            </p:nvSpPr>
            <p:spPr>
              <a:xfrm>
                <a:off x="5554080" y="5190120"/>
                <a:ext cx="5497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2774160" y="524052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666040" y="5325120"/>
                <a:ext cx="352440" cy="21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310200" y="5308560"/>
                <a:ext cx="396360" cy="13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629880" y="5616360"/>
                <a:ext cx="35280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93920" y="5359320"/>
                <a:ext cx="26208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2870280" y="5771160"/>
                <a:ext cx="132480" cy="149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4" name=""/>
              <p:cNvCxnSpPr>
                <a:stCxn id="372" idx="3"/>
                <a:endCxn id="373" idx="2"/>
              </p:cNvCxnSpPr>
              <p:nvPr/>
            </p:nvCxnSpPr>
            <p:spPr>
              <a:xfrm>
                <a:off x="2555640" y="5420520"/>
                <a:ext cx="315000" cy="426960"/>
              </a:xfrm>
              <a:prstGeom prst="bentConnector3">
                <a:avLst>
                  <a:gd name="adj1" fmla="val 4977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7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3222720" y="56973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3266640" y="5807160"/>
                <a:ext cx="219600" cy="1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4207680" y="561312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39280" y="5613120"/>
                <a:ext cx="350640" cy="2516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79" name=""/>
              <p:cNvCxnSpPr>
                <a:stCxn id="373" idx="4"/>
                <a:endCxn id="375" idx="1"/>
              </p:cNvCxnSpPr>
              <p:nvPr/>
            </p:nvCxnSpPr>
            <p:spPr>
              <a:xfrm flipV="1">
                <a:off x="3003120" y="5758200"/>
                <a:ext cx="220320" cy="8856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0" name=""/>
              <p:cNvCxnSpPr>
                <a:stCxn id="373" idx="4"/>
                <a:endCxn id="376" idx="1"/>
              </p:cNvCxnSpPr>
              <p:nvPr/>
            </p:nvCxnSpPr>
            <p:spPr>
              <a:xfrm>
                <a:off x="3003120" y="5846400"/>
                <a:ext cx="264240" cy="399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1" name=""/>
              <p:cNvCxnSpPr/>
              <p:nvPr/>
            </p:nvCxnSpPr>
            <p:spPr>
              <a:xfrm flipV="1">
                <a:off x="3414960" y="5452200"/>
                <a:ext cx="159840" cy="128160"/>
              </a:xfrm>
              <a:prstGeom prst="bentConnector3">
                <a:avLst>
                  <a:gd name="adj1" fmla="val 4988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82" name=""/>
              <p:cNvSpPr/>
              <p:nvPr/>
            </p:nvSpPr>
            <p:spPr>
              <a:xfrm>
                <a:off x="3809880" y="5479560"/>
                <a:ext cx="0" cy="1422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06120" y="5622120"/>
                <a:ext cx="4050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53720" y="5332320"/>
                <a:ext cx="131040" cy="1472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76200" y="537876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83600" y="5904360"/>
                <a:ext cx="1677960" cy="626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7" name=""/>
              <p:cNvCxnSpPr>
                <a:endCxn id="369" idx="2"/>
              </p:cNvCxnSpPr>
              <p:nvPr/>
            </p:nvCxnSpPr>
            <p:spPr>
              <a:xfrm flipV="1">
                <a:off x="5632560" y="553464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88" name=""/>
              <p:cNvSpPr/>
              <p:nvPr/>
            </p:nvSpPr>
            <p:spPr>
              <a:xfrm>
                <a:off x="4083840" y="5778360"/>
                <a:ext cx="1396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516120" y="571896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823120" y="5452560"/>
                <a:ext cx="153000" cy="111240"/>
                <a:chOff x="2823120" y="5452560"/>
                <a:chExt cx="153000" cy="1112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829600" y="5463360"/>
                  <a:ext cx="14292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906280" y="5470200"/>
                  <a:ext cx="4896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878560" y="5518800"/>
                  <a:ext cx="50400" cy="144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894040" y="546660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871720" y="5452560"/>
                  <a:ext cx="95760" cy="6804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25720" y="547236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02680" y="549180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824560" y="552456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823120" y="5554440"/>
                  <a:ext cx="11520" cy="540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2976840" y="5436360"/>
                <a:ext cx="4449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1" name=""/>
              <p:cNvCxnSpPr/>
              <p:nvPr/>
            </p:nvCxnSpPr>
            <p:spPr>
              <a:xfrm flipV="1">
                <a:off x="2975040" y="5160600"/>
                <a:ext cx="161280" cy="5436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02" name=""/>
              <p:cNvSpPr/>
              <p:nvPr/>
            </p:nvSpPr>
            <p:spPr>
              <a:xfrm>
                <a:off x="3616200" y="537552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3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4069800" y="551232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04680" y="5472720"/>
                <a:ext cx="26532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flipV="1">
                <a:off x="3959640" y="5560920"/>
                <a:ext cx="104760" cy="8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40880" y="5560920"/>
                <a:ext cx="43560" cy="69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95200" y="537876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91320" y="5206320"/>
                <a:ext cx="93204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394520" y="554832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6640" y="5542920"/>
                <a:ext cx="33480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3212640" y="5553360"/>
                <a:ext cx="2635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360960" y="5206320"/>
                <a:ext cx="1139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3" name=""/>
              <p:cNvCxnSpPr>
                <a:endCxn id="411" idx="1"/>
              </p:cNvCxnSpPr>
              <p:nvPr/>
            </p:nvCxnSpPr>
            <p:spPr>
              <a:xfrm flipV="1">
                <a:off x="3032280" y="561060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14" name=""/>
              <p:cNvCxnSpPr>
                <a:endCxn id="389" idx="0"/>
              </p:cNvCxnSpPr>
              <p:nvPr/>
            </p:nvCxnSpPr>
            <p:spPr>
              <a:xfrm>
                <a:off x="3503520" y="5625360"/>
                <a:ext cx="232920" cy="94320"/>
              </a:xfrm>
              <a:prstGeom prst="bentConnector4">
                <a:avLst>
                  <a:gd name="adj1" fmla="val 10061"/>
                  <a:gd name="adj2" fmla="val 9540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15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463480" y="5546160"/>
                <a:ext cx="219960" cy="15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2232720" y="5258520"/>
                <a:ext cx="4485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05880" y="5686560"/>
                <a:ext cx="37332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498040" y="4594680"/>
                <a:ext cx="309240" cy="15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4106880" y="535212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4796640" y="5469120"/>
                <a:ext cx="219600" cy="15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4092480" y="4587480"/>
                <a:ext cx="21996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4789440" y="4648680"/>
                <a:ext cx="219960" cy="15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5030280" y="5303520"/>
                <a:ext cx="43668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14800" y="4540680"/>
                <a:ext cx="436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213520" y="5469120"/>
                <a:ext cx="0" cy="167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5193000" y="4702680"/>
                <a:ext cx="0" cy="1692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13480" y="4459680"/>
                <a:ext cx="5169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35680" y="6008760"/>
                <a:ext cx="91152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00400" y="6008760"/>
                <a:ext cx="10389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187160" y="6008760"/>
                <a:ext cx="10440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38120" y="62334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74160" y="6233400"/>
                <a:ext cx="2793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77080" y="6233400"/>
                <a:ext cx="2775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17000" y="62334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16680" y="62334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0040" y="62334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69680" y="62334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2160" y="62334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515628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64896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6200000">
                <a:off x="1872360" y="471888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6200000">
                <a:off x="1872360" y="548712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7680" y="4357440"/>
                <a:ext cx="107784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459800">
                <a:off x="5479920" y="4282200"/>
                <a:ext cx="506160" cy="16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859040" y="4341960"/>
              <a:ext cx="4100040" cy="2329560"/>
              <a:chOff x="1859040" y="4341960"/>
              <a:chExt cx="4100040" cy="2329560"/>
            </a:xfrm>
          </p:grpSpPr>
          <p:sp>
            <p:nvSpPr>
              <p:cNvPr id="446" name=""/>
              <p:cNvSpPr/>
              <p:nvPr/>
            </p:nvSpPr>
            <p:spPr>
              <a:xfrm>
                <a:off x="2016000" y="4402440"/>
                <a:ext cx="3934080" cy="194256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16000" y="4558320"/>
                <a:ext cx="3934080" cy="194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16000" y="6397200"/>
                <a:ext cx="3943080" cy="11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00720" y="6508800"/>
                <a:ext cx="5688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00160" y="6508800"/>
                <a:ext cx="5724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9984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8368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0888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43664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9144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43664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549144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298368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49984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390888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2021760" y="5368320"/>
                <a:ext cx="3933720" cy="767520"/>
                <a:chOff x="2021760" y="5368320"/>
                <a:chExt cx="3933720" cy="767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021760" y="5368320"/>
                  <a:ext cx="39337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021760" y="6135840"/>
                  <a:ext cx="393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2205000" y="6091560"/>
                <a:ext cx="43452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5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2586960" y="4634280"/>
                <a:ext cx="2635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5477400" y="4720320"/>
                <a:ext cx="352800" cy="20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3121920" y="4704480"/>
                <a:ext cx="397800" cy="12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3448080" y="5012280"/>
                <a:ext cx="35100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2110320" y="496008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2061720" y="5071320"/>
                <a:ext cx="45576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683440" y="5164920"/>
                <a:ext cx="131040" cy="1508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2" name=""/>
              <p:cNvCxnSpPr>
                <a:stCxn id="469" idx="3"/>
                <a:endCxn id="471" idx="2"/>
              </p:cNvCxnSpPr>
              <p:nvPr/>
            </p:nvCxnSpPr>
            <p:spPr>
              <a:xfrm>
                <a:off x="2373840" y="5022360"/>
                <a:ext cx="309960" cy="218520"/>
              </a:xfrm>
              <a:prstGeom prst="bentConnector3">
                <a:avLst>
                  <a:gd name="adj1" fmla="val 4976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73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3034080" y="5092920"/>
                <a:ext cx="26532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3079800" y="520272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4019040" y="5008320"/>
                <a:ext cx="35280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850280" y="5008320"/>
                <a:ext cx="351000" cy="24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477" name=""/>
              <p:cNvCxnSpPr/>
              <p:nvPr/>
            </p:nvCxnSpPr>
            <p:spPr>
              <a:xfrm flipV="1">
                <a:off x="2672280" y="4975920"/>
                <a:ext cx="201240" cy="77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78" name=""/>
              <p:cNvCxnSpPr>
                <a:stCxn id="471" idx="4"/>
                <a:endCxn id="474" idx="1"/>
              </p:cNvCxnSpPr>
              <p:nvPr/>
            </p:nvCxnSpPr>
            <p:spPr>
              <a:xfrm>
                <a:off x="2814120" y="5240520"/>
                <a:ext cx="266040" cy="41760"/>
              </a:xfrm>
              <a:prstGeom prst="bentConnector3">
                <a:avLst>
                  <a:gd name="adj1" fmla="val 4972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79" name=""/>
              <p:cNvCxnSpPr/>
              <p:nvPr/>
            </p:nvCxnSpPr>
            <p:spPr>
              <a:xfrm flipV="1">
                <a:off x="3297600" y="4939560"/>
                <a:ext cx="159480" cy="128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80" name=""/>
              <p:cNvSpPr/>
              <p:nvPr/>
            </p:nvSpPr>
            <p:spPr>
              <a:xfrm>
                <a:off x="3621240" y="4875480"/>
                <a:ext cx="0" cy="1738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521080" y="5029920"/>
                <a:ext cx="352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65440" y="4727880"/>
                <a:ext cx="130680" cy="1454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87560" y="477468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6760" y="5298120"/>
                <a:ext cx="1676160" cy="648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4040" bIns="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endCxn id="466" idx="2"/>
              </p:cNvCxnSpPr>
              <p:nvPr/>
            </p:nvCxnSpPr>
            <p:spPr>
              <a:xfrm flipV="1">
                <a:off x="5443920" y="492876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86" name=""/>
              <p:cNvSpPr/>
              <p:nvPr/>
            </p:nvSpPr>
            <p:spPr>
              <a:xfrm>
                <a:off x="3799440" y="5172120"/>
                <a:ext cx="2368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27840" y="511272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2634120" y="4846320"/>
                <a:ext cx="153000" cy="110880"/>
                <a:chOff x="2634120" y="4846320"/>
                <a:chExt cx="153000" cy="1108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2640960" y="4857120"/>
                  <a:ext cx="142920" cy="10008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717640" y="4863960"/>
                  <a:ext cx="4860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89560" y="491256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705400" y="486036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83080" y="4846320"/>
                  <a:ext cx="95400" cy="6840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737080" y="4866120"/>
                  <a:ext cx="5004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714040" y="488556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635920" y="491796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634120" y="4948200"/>
                  <a:ext cx="12240" cy="540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2740680" y="4826880"/>
                <a:ext cx="4521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9" name=""/>
              <p:cNvCxnSpPr/>
              <p:nvPr/>
            </p:nvCxnSpPr>
            <p:spPr>
              <a:xfrm flipV="1">
                <a:off x="2787840" y="4644360"/>
                <a:ext cx="161280" cy="5652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00" name=""/>
              <p:cNvSpPr/>
              <p:nvPr/>
            </p:nvSpPr>
            <p:spPr>
              <a:xfrm>
                <a:off x="3427200" y="476892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1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3897000" y="4900320"/>
                <a:ext cx="26316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4316040" y="486828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flipV="1">
                <a:off x="3771360" y="495612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51880" y="4956120"/>
                <a:ext cx="43920" cy="68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08360" y="4774680"/>
                <a:ext cx="17708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0880" y="4600080"/>
                <a:ext cx="937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205880" y="494208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07640" y="4938120"/>
                <a:ext cx="3351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3024000" y="4947120"/>
                <a:ext cx="26352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3174120" y="4600080"/>
                <a:ext cx="1138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1" name=""/>
              <p:cNvCxnSpPr>
                <a:endCxn id="509" idx="1"/>
              </p:cNvCxnSpPr>
              <p:nvPr/>
            </p:nvCxnSpPr>
            <p:spPr>
              <a:xfrm flipV="1">
                <a:off x="2843640" y="5006520"/>
                <a:ext cx="180720" cy="207360"/>
              </a:xfrm>
              <a:prstGeom prst="bentConnector3">
                <a:avLst>
                  <a:gd name="adj1" fmla="val 60079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12" name=""/>
              <p:cNvCxnSpPr>
                <a:endCxn id="487" idx="0"/>
              </p:cNvCxnSpPr>
              <p:nvPr/>
            </p:nvCxnSpPr>
            <p:spPr>
              <a:xfrm>
                <a:off x="3317400" y="5019120"/>
                <a:ext cx="231120" cy="94320"/>
              </a:xfrm>
              <a:prstGeom prst="bentConnector4">
                <a:avLst>
                  <a:gd name="adj1" fmla="val 39157"/>
                  <a:gd name="adj2" fmla="val 9540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13" name=""/>
              <p:cNvSpPr/>
              <p:nvPr/>
            </p:nvSpPr>
            <p:spPr>
              <a:xfrm>
                <a:off x="5374440" y="5346720"/>
                <a:ext cx="55188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4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597760" y="539676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5487840" y="5481720"/>
                <a:ext cx="352800" cy="21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3134160" y="5465160"/>
                <a:ext cx="396360" cy="13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3451680" y="577296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2115720" y="55155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"/>
              <p:cNvSpPr/>
              <p:nvPr/>
            </p:nvSpPr>
            <p:spPr>
              <a:xfrm>
                <a:off x="2693520" y="5927400"/>
                <a:ext cx="132480" cy="149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0" name=""/>
              <p:cNvCxnSpPr>
                <a:stCxn id="518" idx="3"/>
                <a:endCxn id="519" idx="2"/>
              </p:cNvCxnSpPr>
              <p:nvPr/>
            </p:nvCxnSpPr>
            <p:spPr>
              <a:xfrm>
                <a:off x="2379600" y="5576400"/>
                <a:ext cx="314280" cy="427320"/>
              </a:xfrm>
              <a:prstGeom prst="bentConnector3">
                <a:avLst>
                  <a:gd name="adj1" fmla="val 4988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2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3046680" y="585360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3090240" y="5963400"/>
                <a:ext cx="219960" cy="1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4029840" y="5769360"/>
                <a:ext cx="35244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4861080" y="5769360"/>
                <a:ext cx="350640" cy="2520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525" name=""/>
              <p:cNvCxnSpPr>
                <a:stCxn id="519" idx="4"/>
                <a:endCxn id="521" idx="1"/>
              </p:cNvCxnSpPr>
              <p:nvPr/>
            </p:nvCxnSpPr>
            <p:spPr>
              <a:xfrm flipV="1">
                <a:off x="2826000" y="5914080"/>
                <a:ext cx="220680" cy="88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26" name=""/>
              <p:cNvCxnSpPr>
                <a:stCxn id="519" idx="4"/>
                <a:endCxn id="522" idx="1"/>
              </p:cNvCxnSpPr>
              <p:nvPr/>
            </p:nvCxnSpPr>
            <p:spPr>
              <a:xfrm>
                <a:off x="2826360" y="6003000"/>
                <a:ext cx="264240" cy="399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27" name=""/>
              <p:cNvCxnSpPr/>
              <p:nvPr/>
            </p:nvCxnSpPr>
            <p:spPr>
              <a:xfrm flipV="1">
                <a:off x="3236760" y="5608800"/>
                <a:ext cx="160920" cy="128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28" name=""/>
              <p:cNvSpPr/>
              <p:nvPr/>
            </p:nvSpPr>
            <p:spPr>
              <a:xfrm>
                <a:off x="3633480" y="5636160"/>
                <a:ext cx="0" cy="141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31160" y="5778360"/>
                <a:ext cx="4032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75520" y="5488560"/>
                <a:ext cx="132480" cy="1476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900160" y="553536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607200" y="6060960"/>
                <a:ext cx="1676160" cy="626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3" name=""/>
              <p:cNvCxnSpPr>
                <a:endCxn id="515" idx="2"/>
              </p:cNvCxnSpPr>
              <p:nvPr/>
            </p:nvCxnSpPr>
            <p:spPr>
              <a:xfrm flipV="1">
                <a:off x="5454360" y="569124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34" name=""/>
              <p:cNvSpPr/>
              <p:nvPr/>
            </p:nvSpPr>
            <p:spPr>
              <a:xfrm>
                <a:off x="3907440" y="5934960"/>
                <a:ext cx="1396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40080" y="587520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2646360" y="5609160"/>
                <a:ext cx="151560" cy="110880"/>
                <a:chOff x="2646360" y="5609160"/>
                <a:chExt cx="151560" cy="1108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653200" y="5619600"/>
                  <a:ext cx="14112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28080" y="5626800"/>
                  <a:ext cx="4896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701800" y="567540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716200" y="5623200"/>
                  <a:ext cx="7092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95320" y="5609160"/>
                  <a:ext cx="93960" cy="676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747520" y="562860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724840" y="564840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648160" y="5680800"/>
                  <a:ext cx="5004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646360" y="571104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2798640" y="5592960"/>
                <a:ext cx="4485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7" name=""/>
              <p:cNvCxnSpPr/>
              <p:nvPr/>
            </p:nvCxnSpPr>
            <p:spPr>
              <a:xfrm flipV="1">
                <a:off x="2798280" y="5317200"/>
                <a:ext cx="159480" cy="547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48" name=""/>
              <p:cNvSpPr/>
              <p:nvPr/>
            </p:nvSpPr>
            <p:spPr>
              <a:xfrm>
                <a:off x="3437640" y="553176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3891600" y="5668560"/>
                <a:ext cx="26568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4328280" y="56289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 flipV="1">
                <a:off x="3781800" y="5716800"/>
                <a:ext cx="106200" cy="846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62320" y="5717160"/>
                <a:ext cx="43560" cy="69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18800" y="5535360"/>
                <a:ext cx="17704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14920" y="5362920"/>
                <a:ext cx="93096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4218480" y="5704200"/>
                <a:ext cx="1029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19880" y="5699160"/>
                <a:ext cx="3333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7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3034080" y="5709960"/>
                <a:ext cx="2653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3184200" y="5362920"/>
                <a:ext cx="114048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9" name=""/>
              <p:cNvCxnSpPr>
                <a:endCxn id="557" idx="1"/>
              </p:cNvCxnSpPr>
              <p:nvPr/>
            </p:nvCxnSpPr>
            <p:spPr>
              <a:xfrm flipV="1">
                <a:off x="2854080" y="576720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60" name=""/>
              <p:cNvCxnSpPr>
                <a:endCxn id="535" idx="0"/>
              </p:cNvCxnSpPr>
              <p:nvPr/>
            </p:nvCxnSpPr>
            <p:spPr>
              <a:xfrm>
                <a:off x="3327840" y="5781600"/>
                <a:ext cx="232560" cy="93960"/>
              </a:xfrm>
              <a:prstGeom prst="bentConnector4">
                <a:avLst>
                  <a:gd name="adj1" fmla="val 9922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61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2287080" y="570276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2056320" y="5415120"/>
                <a:ext cx="4485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27680" y="5843160"/>
                <a:ext cx="37512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4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2321640" y="4750920"/>
                <a:ext cx="30708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3928320" y="5508720"/>
                <a:ext cx="21996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619880" y="5625360"/>
                <a:ext cx="219960" cy="15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3914640" y="4744080"/>
                <a:ext cx="21960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4611240" y="4805280"/>
                <a:ext cx="219960" cy="15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853880" y="5460120"/>
                <a:ext cx="4345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38040" y="4697280"/>
                <a:ext cx="4345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037120" y="5625000"/>
                <a:ext cx="0" cy="167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014800" y="4858920"/>
                <a:ext cx="0" cy="168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33840" y="4616280"/>
                <a:ext cx="518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59280" y="6165000"/>
                <a:ext cx="91152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24000" y="6165000"/>
                <a:ext cx="10386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10400" y="6165000"/>
                <a:ext cx="10404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61720" y="63900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94160" y="6390000"/>
                <a:ext cx="282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100680" y="63900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4240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03848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5184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09148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8216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97772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47112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6200000">
                <a:off x="1695600" y="487476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200000">
                <a:off x="1695600" y="564300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89840" y="4513680"/>
                <a:ext cx="107784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459800">
                <a:off x="5299560" y="4438800"/>
                <a:ext cx="506160" cy="16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331920" y="1566720"/>
            <a:ext cx="2790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Busines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Program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Campaign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13200" y="1773360"/>
            <a:ext cx="345960" cy="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933640" y="2147760"/>
            <a:ext cx="668520" cy="48132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71480" y="2709720"/>
            <a:ext cx="201600" cy="120672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82400" y="232920"/>
            <a:ext cx="84610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-in-Class Companies Integrate Marketing Planning and Performance at the Business, Program and Campaign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of Macro-Level Marketing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0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siness-to-consumer company spends hundreds of millions on market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ampaign has a direct “yield”, but the interactions between channels are not well understoo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ly, there are diminishing returns and potentially minimum efficient scales for each channel, creating an “S” curv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ach new customer produces cash flows throughout the lifecycle; these curves are discounted back using weighted average cost of capital (WAC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I understand integrated return on marketing invest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I model customer lifecycle and profit sensitivities to different retention rates / etc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I understand the most optimal mix of marketing channels to meet given revenue, expense, and profit goal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1120" y="114480"/>
            <a:ext cx="912168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iness Proble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eturns on Marketing Spend Typically Are High Initially, Yet Level Off with Increasing Spend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86120" y="5513400"/>
            <a:ext cx="0" cy="87804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987280" y="5551560"/>
            <a:ext cx="351000" cy="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252960" y="5551560"/>
            <a:ext cx="4572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24200" y="5437080"/>
            <a:ext cx="214560" cy="17964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243320" y="4689360"/>
            <a:ext cx="11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Spend the </a:t>
            </a:r>
            <a:r>
              <a:rPr b="0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same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 amount to capture more pro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76840" y="5619600"/>
            <a:ext cx="117468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Spend </a:t>
            </a:r>
            <a:r>
              <a:rPr b="0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less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 to achieve the same </a:t>
            </a:r>
            <a:r>
              <a:rPr b="0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amount of pro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08640" y="4498920"/>
            <a:ext cx="2024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-    the most optimal mix of marketing le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1498680" y="5301720"/>
            <a:ext cx="237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fit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965320" y="4403880"/>
            <a:ext cx="1800" cy="20080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47960" y="6505560"/>
            <a:ext cx="37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ing Expense/Revenue 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68360" y="3551400"/>
            <a:ext cx="5888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ithin the Marketing Spend, There Is an Optimal Mix Which Yields the Mos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965320" y="1288800"/>
            <a:ext cx="1800" cy="18586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54160" y="6409440"/>
            <a:ext cx="3289320" cy="1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54160" y="3146400"/>
            <a:ext cx="3289320" cy="14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1648800" y="2025720"/>
            <a:ext cx="207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Reven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790720" y="3209760"/>
            <a:ext cx="37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ing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38400" y="1506600"/>
            <a:ext cx="3062520" cy="1493640"/>
          </a:xfrm>
          <a:custGeom>
            <a:avLst/>
            <a:gdLst/>
            <a:ahLst/>
            <a:rect l="l" t="t" r="r" b="b"/>
            <a:pathLst>
              <a:path w="3936" h="2216">
                <a:moveTo>
                  <a:pt x="0" y="2216"/>
                </a:moveTo>
                <a:cubicBezTo>
                  <a:pt x="128" y="2212"/>
                  <a:pt x="256" y="2208"/>
                  <a:pt x="432" y="2120"/>
                </a:cubicBezTo>
                <a:cubicBezTo>
                  <a:pt x="608" y="2032"/>
                  <a:pt x="864" y="1960"/>
                  <a:pt x="1056" y="1688"/>
                </a:cubicBezTo>
                <a:cubicBezTo>
                  <a:pt x="1248" y="1416"/>
                  <a:pt x="1400" y="752"/>
                  <a:pt x="1584" y="488"/>
                </a:cubicBezTo>
                <a:cubicBezTo>
                  <a:pt x="1768" y="224"/>
                  <a:pt x="1904" y="184"/>
                  <a:pt x="2160" y="104"/>
                </a:cubicBezTo>
                <a:cubicBezTo>
                  <a:pt x="2416" y="24"/>
                  <a:pt x="2880" y="16"/>
                  <a:pt x="3120" y="8"/>
                </a:cubicBezTo>
                <a:cubicBezTo>
                  <a:pt x="3360" y="0"/>
                  <a:pt x="3464" y="24"/>
                  <a:pt x="3600" y="56"/>
                </a:cubicBezTo>
                <a:cubicBezTo>
                  <a:pt x="3736" y="88"/>
                  <a:pt x="3836" y="144"/>
                  <a:pt x="3936" y="2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267080" y="1967040"/>
            <a:ext cx="3213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173160" indent="-173160"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It is difficult to know precise cur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And the curve varies -- by marketing lever, offering, count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Return may even drop at some point            (e.g. advertising over-expos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65720" y="1243080"/>
            <a:ext cx="2311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 response curve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– return on different levels    of marketing 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35280" y="2467080"/>
            <a:ext cx="32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016160" y="1857240"/>
            <a:ext cx="32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 rot="10800000">
            <a:off x="2948040" y="4523760"/>
            <a:ext cx="30470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 flipV="1" rot="10800000">
            <a:off x="2948400" y="4523760"/>
            <a:ext cx="304776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62440" y="5514840"/>
            <a:ext cx="126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E/R, Profit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3829680" y="4708080"/>
            <a:ext cx="1800" cy="7131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24360" y="1552680"/>
            <a:ext cx="2971800" cy="1447560"/>
          </a:xfrm>
          <a:custGeom>
            <a:avLst/>
            <a:gdLst/>
            <a:ahLst/>
            <a:rect l="l" t="t" r="r" b="b"/>
            <a:pathLst>
              <a:path w="1872" h="864">
                <a:moveTo>
                  <a:pt x="0" y="864"/>
                </a:moveTo>
                <a:cubicBezTo>
                  <a:pt x="68" y="664"/>
                  <a:pt x="136" y="464"/>
                  <a:pt x="240" y="336"/>
                </a:cubicBezTo>
                <a:cubicBezTo>
                  <a:pt x="344" y="208"/>
                  <a:pt x="352" y="152"/>
                  <a:pt x="624" y="96"/>
                </a:cubicBezTo>
                <a:cubicBezTo>
                  <a:pt x="896" y="40"/>
                  <a:pt x="1384" y="20"/>
                  <a:pt x="187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6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Model: Flow &amp; Key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1542960"/>
            <a:ext cx="990360" cy="838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1542960"/>
            <a:ext cx="914400" cy="838440"/>
          </a:xfrm>
          <a:prstGeom prst="rect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9880" y="1695600"/>
            <a:ext cx="762120" cy="609480"/>
          </a:xfrm>
          <a:custGeom>
            <a:avLst/>
            <a:gdLst/>
            <a:ahLst/>
            <a:rect l="l" t="t" r="r" b="b"/>
            <a:pathLst>
              <a:path w="480" h="304">
                <a:moveTo>
                  <a:pt x="0" y="304"/>
                </a:moveTo>
                <a:cubicBezTo>
                  <a:pt x="8" y="232"/>
                  <a:pt x="16" y="160"/>
                  <a:pt x="48" y="112"/>
                </a:cubicBezTo>
                <a:cubicBezTo>
                  <a:pt x="80" y="64"/>
                  <a:pt x="120" y="32"/>
                  <a:pt x="192" y="16"/>
                </a:cubicBezTo>
                <a:cubicBezTo>
                  <a:pt x="264" y="0"/>
                  <a:pt x="372" y="8"/>
                  <a:pt x="480" y="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29400" y="5334120"/>
            <a:ext cx="31352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759720" y="5457960"/>
            <a:ext cx="261720" cy="245880"/>
          </a:xfrm>
          <a:prstGeom prst="rect">
            <a:avLst/>
          </a:prstGeom>
          <a:solidFill>
            <a:srgbClr val="cc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86600" y="54579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Variables (Optim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759720" y="5826240"/>
            <a:ext cx="261720" cy="245880"/>
          </a:xfrm>
          <a:prstGeom prst="rect">
            <a:avLst/>
          </a:prstGeom>
          <a:solidFill>
            <a:srgbClr val="c5073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086600" y="5826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ly Derived As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59720" y="6195960"/>
            <a:ext cx="261720" cy="24624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86600" y="61959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ing-Driven As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90920" y="1542960"/>
            <a:ext cx="990360" cy="83844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Per Sti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15429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2152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799880" y="1523880"/>
            <a:ext cx="304920" cy="933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343480" y="1542960"/>
            <a:ext cx="990720" cy="838440"/>
          </a:xfrm>
          <a:prstGeom prst="rect">
            <a:avLst/>
          </a:prstGeom>
          <a:solidFill>
            <a:srgbClr val="f8f8f8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Potential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2936880"/>
            <a:ext cx="990360" cy="838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33920" y="2936880"/>
            <a:ext cx="914400" cy="838080"/>
          </a:xfrm>
          <a:prstGeom prst="rect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3089160"/>
            <a:ext cx="762120" cy="609840"/>
          </a:xfrm>
          <a:custGeom>
            <a:avLst/>
            <a:gdLst/>
            <a:ahLst/>
            <a:rect l="l" t="t" r="r" b="b"/>
            <a:pathLst>
              <a:path w="480" h="304">
                <a:moveTo>
                  <a:pt x="0" y="304"/>
                </a:moveTo>
                <a:cubicBezTo>
                  <a:pt x="8" y="232"/>
                  <a:pt x="16" y="160"/>
                  <a:pt x="48" y="112"/>
                </a:cubicBezTo>
                <a:cubicBezTo>
                  <a:pt x="80" y="64"/>
                  <a:pt x="120" y="32"/>
                  <a:pt x="192" y="16"/>
                </a:cubicBezTo>
                <a:cubicBezTo>
                  <a:pt x="264" y="0"/>
                  <a:pt x="372" y="8"/>
                  <a:pt x="480" y="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2936880"/>
            <a:ext cx="990360" cy="8380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P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2936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" y="3546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s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799880" y="2917800"/>
            <a:ext cx="304920" cy="933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43480" y="2936880"/>
            <a:ext cx="990720" cy="838080"/>
          </a:xfrm>
          <a:prstGeom prst="rect">
            <a:avLst/>
          </a:prstGeom>
          <a:solidFill>
            <a:srgbClr val="f8f8f8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Basic Service Customer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79960" y="2378160"/>
            <a:ext cx="15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er to get marginal customers as market share goe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79960" y="3809880"/>
            <a:ext cx="153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comes smaller moving for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143840" y="1963800"/>
            <a:ext cx="1933560" cy="15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00800" y="2003400"/>
            <a:ext cx="696960" cy="69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342120" y="2742840"/>
            <a:ext cx="74448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46748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81668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15040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48376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78832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7162560" y="2209680"/>
            <a:ext cx="1904760" cy="180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162560" y="2514600"/>
            <a:ext cx="1904760" cy="14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162560" y="2819520"/>
            <a:ext cx="1904760" cy="14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7162560" y="3124080"/>
            <a:ext cx="1904760" cy="180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162560" y="3352680"/>
            <a:ext cx="1904760" cy="180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91520" y="2209680"/>
            <a:ext cx="144756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Age, Acq. Channe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vs. Upsold vs. Win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86080" y="4419720"/>
            <a:ext cx="990360" cy="838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4419720"/>
            <a:ext cx="914400" cy="838080"/>
          </a:xfrm>
          <a:prstGeom prst="rect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9880" y="4572000"/>
            <a:ext cx="762120" cy="609480"/>
          </a:xfrm>
          <a:custGeom>
            <a:avLst/>
            <a:gdLst/>
            <a:ahLst/>
            <a:rect l="l" t="t" r="r" b="b"/>
            <a:pathLst>
              <a:path w="480" h="304">
                <a:moveTo>
                  <a:pt x="0" y="304"/>
                </a:moveTo>
                <a:cubicBezTo>
                  <a:pt x="8" y="232"/>
                  <a:pt x="16" y="160"/>
                  <a:pt x="48" y="112"/>
                </a:cubicBezTo>
                <a:cubicBezTo>
                  <a:pt x="80" y="64"/>
                  <a:pt x="120" y="32"/>
                  <a:pt x="192" y="16"/>
                </a:cubicBezTo>
                <a:cubicBezTo>
                  <a:pt x="264" y="0"/>
                  <a:pt x="372" y="8"/>
                  <a:pt x="480" y="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4419720"/>
            <a:ext cx="990360" cy="8380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P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419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57200" y="502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799880" y="4400640"/>
            <a:ext cx="304920" cy="933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8900000">
            <a:off x="6237720" y="30319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old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2700000">
            <a:off x="6290280" y="19346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971800" y="38098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971800" y="2361960"/>
            <a:ext cx="106668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620120" y="3733920"/>
            <a:ext cx="990360" cy="8380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6104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991720" y="3870360"/>
            <a:ext cx="1066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c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772400" y="335268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8229600" y="3352320"/>
            <a:ext cx="2206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426708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434340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asing Acquisition Quality and thus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5791320"/>
            <a:ext cx="205740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5791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05320" y="5791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48320" y="5791320"/>
            <a:ext cx="19047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CC: 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tion: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S/Mont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y Customer 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19080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pons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86200" y="33019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pons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86200" y="478476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pons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Determine Prof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" y="2330280"/>
            <a:ext cx="5410080" cy="271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327800" y="267804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 Impres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Period 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92320" y="260820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 Impres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Period 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92320" y="379404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lied Respon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28640" y="3375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27800" y="386388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 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Period 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810560" y="351468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2468520"/>
            <a:ext cx="2428920" cy="23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673680" y="212076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46240" y="1981080"/>
            <a:ext cx="41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Return (Post Marketing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492160" y="2398680"/>
            <a:ext cx="276120" cy="2509920"/>
          </a:xfrm>
          <a:custGeom>
            <a:avLst/>
            <a:gdLst>
              <a:gd name="textAreaLeft" fmla="*/ 176040 w 276120"/>
              <a:gd name="textAreaRight" fmla="*/ 276120 w 27612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76560" y="2438280"/>
            <a:ext cx="1378080" cy="1076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-Year Discoun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stomer Lif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 on Order Channel, Cust Ty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76560" y="3863880"/>
            <a:ext cx="1378080" cy="9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ly Custo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-Marketing Profit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27720" y="3514680"/>
            <a:ext cx="3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32040" y="2398680"/>
            <a:ext cx="274680" cy="2509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11600" y="34448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71560" y="2398680"/>
            <a:ext cx="274680" cy="2509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55200" y="2398680"/>
            <a:ext cx="276120" cy="2509920"/>
          </a:xfrm>
          <a:custGeom>
            <a:avLst/>
            <a:gdLst>
              <a:gd name="textAreaLeft" fmla="*/ 176040 w 276120"/>
              <a:gd name="textAreaRight" fmla="*/ 276120 w 27612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3305160"/>
            <a:ext cx="346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57200" y="3305160"/>
            <a:ext cx="344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351468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019920" y="3200400"/>
            <a:ext cx="457200" cy="101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040520" y="2678040"/>
            <a:ext cx="274680" cy="2022480"/>
          </a:xfrm>
          <a:custGeom>
            <a:avLst/>
            <a:gdLst>
              <a:gd name="textAreaLeft" fmla="*/ 175680 w 274680"/>
              <a:gd name="textAreaRight" fmla="*/ 275040 w 274680"/>
              <a:gd name="textAreaTop" fmla="*/ 52560 h 2022480"/>
              <a:gd name="textAreaBottom" fmla="*/ 1969920 h 20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637480" y="2678040"/>
            <a:ext cx="276480" cy="2022480"/>
          </a:xfrm>
          <a:custGeom>
            <a:avLst/>
            <a:gdLst>
              <a:gd name="textAreaLeft" fmla="*/ 176760 w 276480"/>
              <a:gd name="textAreaRight" fmla="*/ 276840 w 276480"/>
              <a:gd name="textAreaTop" fmla="*/ 52560 h 2022480"/>
              <a:gd name="textAreaBottom" fmla="*/ 1969920 h 20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2280" y="2120760"/>
            <a:ext cx="274680" cy="3137040"/>
          </a:xfrm>
          <a:custGeom>
            <a:avLst/>
            <a:gdLst>
              <a:gd name="textAreaLeft" fmla="*/ 175680 w 274680"/>
              <a:gd name="textAreaRight" fmla="*/ 275040 w 274680"/>
              <a:gd name="textAreaTop" fmla="*/ 81720 h 3137040"/>
              <a:gd name="textAreaBottom" fmla="*/ 3055320 h 313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981280" y="2120760"/>
            <a:ext cx="274680" cy="3137040"/>
          </a:xfrm>
          <a:custGeom>
            <a:avLst/>
            <a:gdLst>
              <a:gd name="textAreaLeft" fmla="*/ 175320 w 274680"/>
              <a:gd name="textAreaRight" fmla="*/ 274680 w 274680"/>
              <a:gd name="textAreaTop" fmla="*/ 81720 h 3137040"/>
              <a:gd name="textAreaBottom" fmla="*/ 3055320 h 313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118440" y="3305160"/>
            <a:ext cx="939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7960" y="1104840"/>
            <a:ext cx="90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MI (Return on Marketing Inve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6520" y="320400"/>
            <a:ext cx="89996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 Matrix Summary: Statistical Analysis Allows Us to Pinpoint Interaction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82880" y="14670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 Channel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arying La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6200000">
            <a:off x="-1392840" y="34822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6705720"/>
            <a:ext cx="10058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495360" y="1879560"/>
          <a:ext cx="9372600" cy="3861000"/>
        </p:xfrm>
        <a:graphic>
          <a:graphicData uri="http://schemas.openxmlformats.org/drawingml/2006/table">
            <a:tbl>
              <a:tblPr/>
              <a:tblGrid>
                <a:gridCol w="1184040"/>
                <a:gridCol w="797040"/>
                <a:gridCol w="762120"/>
                <a:gridCol w="762120"/>
                <a:gridCol w="990360"/>
                <a:gridCol w="762120"/>
                <a:gridCol w="838080"/>
                <a:gridCol w="838440"/>
                <a:gridCol w="761760"/>
                <a:gridCol w="838440"/>
                <a:gridCol w="838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B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Prospec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(Upse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-Ups (Upse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Ac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 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Upsel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6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M 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 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507960" y="6060960"/>
            <a:ext cx="633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llow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ignific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rcRect l="0" t="6856" r="1562" b="7919"/>
          <a:stretch/>
        </p:blipFill>
        <p:spPr>
          <a:xfrm>
            <a:off x="152280" y="730080"/>
            <a:ext cx="9601200" cy="623412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79360" y="752400"/>
            <a:ext cx="1771560" cy="110664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09600" y="932040"/>
            <a:ext cx="168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Key Model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9360" y="1932120"/>
            <a:ext cx="2979720" cy="98892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030560" y="2046240"/>
            <a:ext cx="168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P&amp;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"/>
          <p:cNvCxnSpPr>
            <a:stCxn id="730" idx="2"/>
            <a:endCxn id="729" idx="3"/>
          </p:cNvCxnSpPr>
          <p:nvPr/>
        </p:nvCxnSpPr>
        <p:spPr>
          <a:xfrm rot="5400000">
            <a:off x="4034160" y="1589760"/>
            <a:ext cx="76680" cy="1599120"/>
          </a:xfrm>
          <a:prstGeom prst="bentConnector2">
            <a:avLst/>
          </a:prstGeom>
          <a:ln w="28440">
            <a:solidFill>
              <a:srgbClr val="c50731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279360" y="2978280"/>
            <a:ext cx="9453600" cy="82548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46800" y="2046240"/>
            <a:ext cx="22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TV &amp; Radio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33" idx="2"/>
            <a:endCxn id="732" idx="0"/>
          </p:cNvCxnSpPr>
          <p:nvPr/>
        </p:nvCxnSpPr>
        <p:spPr>
          <a:xfrm rot="5400000">
            <a:off x="5937120" y="1419840"/>
            <a:ext cx="613440" cy="2475720"/>
          </a:xfrm>
          <a:prstGeom prst="bentConnector3">
            <a:avLst>
              <a:gd name="adj1" fmla="val 51027"/>
            </a:avLst>
          </a:prstGeom>
          <a:ln w="28440">
            <a:solidFill>
              <a:srgbClr val="c50731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79360" y="3862440"/>
            <a:ext cx="9453600" cy="82548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38400" y="752400"/>
            <a:ext cx="4602240" cy="110664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418520" y="831960"/>
            <a:ext cx="168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Retention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7" idx="2"/>
            <a:endCxn id="736" idx="3"/>
          </p:cNvCxnSpPr>
          <p:nvPr/>
        </p:nvCxnSpPr>
        <p:spPr>
          <a:xfrm rot="5400000">
            <a:off x="7421400" y="468720"/>
            <a:ext cx="170640" cy="1505880"/>
          </a:xfrm>
          <a:prstGeom prst="bentConnector2">
            <a:avLst/>
          </a:prstGeom>
          <a:ln w="28440">
            <a:solidFill>
              <a:srgbClr val="c50731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79360" y="4734000"/>
            <a:ext cx="9453600" cy="224136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46600" y="6543720"/>
            <a:ext cx="311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Customer Balance She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r Di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profit positive in each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total spend lower than a “realistic” budge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ver allow spend to de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 NPV of 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rcRect l="0" t="0" r="14645" b="0"/>
          <a:stretch/>
        </p:blipFill>
        <p:spPr>
          <a:xfrm>
            <a:off x="2751120" y="3130560"/>
            <a:ext cx="7029360" cy="3516480"/>
          </a:xfrm>
          <a:prstGeom prst="rect">
            <a:avLst/>
          </a:prstGeom>
          <a:ln w="28440">
            <a:solidFill>
              <a:srgbClr val="c50731"/>
            </a:solidFill>
            <a:miter/>
          </a:ln>
        </p:spPr>
      </p:pic>
      <p:pic>
        <p:nvPicPr>
          <p:cNvPr id="744" name="" descr=""/>
          <p:cNvPicPr/>
          <p:nvPr/>
        </p:nvPicPr>
        <p:blipFill>
          <a:blip r:embed="rId2"/>
          <a:srcRect l="26191" t="13585" r="28779" b="55382"/>
          <a:stretch/>
        </p:blipFill>
        <p:spPr>
          <a:xfrm>
            <a:off x="263520" y="2752560"/>
            <a:ext cx="4392720" cy="22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5" name=""/>
          <p:cNvSpPr/>
          <p:nvPr/>
        </p:nvSpPr>
        <p:spPr>
          <a:xfrm>
            <a:off x="1387440" y="3265560"/>
            <a:ext cx="3367080" cy="316872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84160" y="3006720"/>
            <a:ext cx="1249560" cy="258840"/>
          </a:xfrm>
          <a:prstGeom prst="rect">
            <a:avLst/>
          </a:prstGeom>
          <a:noFill/>
          <a:ln w="3816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9:38:37Z</dcterms:created>
  <dc:creator>Bill Sheldon</dc:creator>
  <dc:description>Presentation for review with Deirdre Bigley, Anthony Michelini, Margaret McKinley, Steve Mello on January 5, 2004</dc:description>
  <dc:language>en-US</dc:language>
  <cp:lastModifiedBy> ahasselwander</cp:lastModifiedBy>
  <cp:lastPrinted>2000-10-12T03:57:41Z</cp:lastPrinted>
  <dcterms:modified xsi:type="dcterms:W3CDTF">2004-08-06T02:31:33Z</dcterms:modified>
  <cp:revision>675</cp:revision>
  <dc:subject>IBM IGS Marketing Optimization</dc:subject>
  <dc:title>IGS Marketing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MarketBridge Corp.</vt:lpwstr>
  </property>
  <property fmtid="{D5CDD505-2E9C-101B-9397-08002B2CF9AE}" pid="3" name="Owner">
    <vt:lpwstr>MarketBridge Corp.</vt:lpwstr>
  </property>
</Properties>
</file>